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8ED-5FC2-4A93-9950-93C2A907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DB5-BFF0-444B-A3E1-1A2F42A9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604-315E-47B1-A552-2AA837A6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8F8-E00B-4E31-894F-F3D43C1B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4E19-BE41-4304-9225-40F542CC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2C69-206A-48B1-A922-E498B4B1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4350-DFA9-4310-889F-97D110AA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9364-ABA4-4DC9-9AAD-309752F6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F7EF-3E13-462B-8BB2-F6F152F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F57C-9F9B-445C-A96E-1E2D5E8A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5F6B-61E4-4504-90B4-6FC9B3F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FCC-46F5-43CF-9097-2E4F7405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6F5C-C045-478F-B2EC-5A47AB0E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14A-F51F-46CD-9D73-53156E7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E6D7-E92B-4140-986A-7E292B43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237B-8B32-4D6C-9EF3-6F4378C5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5D37-1FDF-4056-A16C-D32131BA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0A6C7-0412-421B-9838-F6782CD1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9FB8-1703-4D20-8E6A-D25C0243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8072-30A1-4E6F-9997-6879172E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FCBE-D60C-4D69-99CF-3B10FCDF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C8DB-24D1-4F95-A39A-A370B6DA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E6B-A9C6-4642-996A-15AA8EB5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D22AA-1887-4983-8639-2F5AE540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57C3-F6F4-48AA-9A0E-2BCA2397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1653-CD65-4A14-A70D-25C6759F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2252-2A04-44B7-B955-792ADAE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D9B8-E15F-4E70-911F-5FE24DB0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1C17-56C8-4DBC-977B-1C276EB6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5A70-FA98-4412-A1C2-592A69FF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C585-DDF0-402B-9EB7-44505DEE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9E137-84C6-4CB1-9CE3-8F658B81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480A-85FC-4FCE-BAEF-A8B1A5D6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AF4-FFD4-440D-93AC-46F46EBE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9D02-C0E5-4D08-93CD-19807D55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7CC2-FFCB-4CE4-BAF6-50AB6DED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D59C3-68C2-4214-8A50-FA356ACF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206D-E96F-4E89-ABD4-99CED9A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12C4A-FCDB-4481-A11C-1FA36F6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71BF-81A4-4EDF-9F55-8120D1E7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F4E1-FDDB-4A6A-88FA-7EA82760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4A016-F16E-4A6B-B628-29188B76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0963-B40F-4C0C-8E83-6DA16B6A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2B3D6-4BB1-425A-ABB5-BA16D518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249-3CD8-4682-A599-0FF1AE50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3AD41-2E88-4955-8CC5-D64A851C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804CD-E21A-4EC5-B06A-8F37CCFB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7EA0-28D5-4EA6-8160-9A22D669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70463-9712-470C-BBAD-6079C3B0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504C-904A-4C33-952E-E9834DB1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5F721-1ADA-4877-85B4-7F5205A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7E5F-5D96-4376-B4D9-9722192E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1357C-C99F-4F35-AB87-5BB2E8EA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5799-3304-410A-B105-8AAE86D4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B08BB-4F3F-49CA-AB44-C440F3D6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300-2C7A-4A43-98A7-165FB66A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1B6FB-377A-41A6-AAA1-5FFA6162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76DCC-25BF-4A30-8E27-D918E3A7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21498-054B-43EE-8AF7-9C95460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7B78F-8730-491F-B999-2C7F613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57218-D16A-4DA2-9319-F751B213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73208-0F41-4D73-8AFA-C5E5BCB3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A1806-1135-4875-95FA-9F29A162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BBF33-FA40-4F30-9F68-C65827B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E6013-69AF-482F-AE63-600E9A94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00162-DD70-4FFC-82A8-A3232B75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830-0DDD-4439-85BD-754D48AC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683B6-26D5-43DC-A98C-F8DE3E35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127B1-D413-4947-8F8D-D556CA5D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C57DA-3884-4650-92B2-963172D3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C46-8FA5-47D3-BFBE-F40FB038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901-DC14-48B8-A541-26C24E9F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3992-81CB-4226-ABCC-5BD0F0190FF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D639-4957-4DF8-B7FC-FB8CD59DD8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D8BE-754D-49FD-847C-BA425752B3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C9DD-87F4-495C-AAD9-A4F984356362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03AC-90FE-409C-8C9C-D772C95CEBA2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84E3-62D0-4C34-ABF1-1D19605293C3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1280" y="1314000"/>
            <a:ext cx="72738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NATOMO-FISIOLOGIA 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VALUTAZIONE DELLA DEGLUTIZION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27000" y="599436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iccione, 24 Maggi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0920" y="4103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na For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62000" y="98280"/>
            <a:ext cx="88660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0920" y="279360"/>
            <a:ext cx="69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FASI DELLA DEGLUTI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5360" y="1751040"/>
            <a:ext cx="4751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TICIPATORIA (preparazione extra-or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UC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ARING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SOFAG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AS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021280" y="2033640"/>
            <a:ext cx="3809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50920" y="1425600"/>
            <a:ext cx="74707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. ANTICIP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562720" y="2730600"/>
            <a:ext cx="3271680" cy="2309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76280" y="2776680"/>
            <a:ext cx="3200400" cy="2209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50920" y="279360"/>
            <a:ext cx="69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FASI DELLA DEGLUTI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8920" y="1943280"/>
            <a:ext cx="89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vviene prima che il cibo oltrepassi lo sfintere lab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8000" y="11592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ff"/>
                </a:solidFill>
                <a:uFillTx/>
                <a:latin typeface="Comic Sans MS"/>
              </a:rPr>
              <a:t>Fase di anticipazione 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4560" y="1484280"/>
            <a:ext cx="3097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Influenzat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attori 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rte cul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lf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92720" y="1413000"/>
            <a:ext cx="2592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Modifica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secrezione saliv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a secrezione gas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l tono della muscolatura liscia e str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5084640"/>
            <a:ext cx="6659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avoris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l’assimilazione di sostanze favorevoli allo sviluppo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Evi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il contatto con le sostanze noc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9280" y="115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ff"/>
                </a:solidFill>
                <a:uFillTx/>
                <a:latin typeface="Comic Sans MS"/>
              </a:rPr>
              <a:t>2. Fase di preparazione extra-o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46280" y="492588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rande importanza dal punto di vista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riabil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1000" y="1268280"/>
            <a:ext cx="48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Comprende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tte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cazio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 consistenza, viscosità, temperatura, dimensioni del bolo che deve essere introdotto in bo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46640" y="4067280"/>
            <a:ext cx="144144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50920" y="1133640"/>
            <a:ext cx="74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. BUCCALE (preparazione or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5920" y="4610160"/>
            <a:ext cx="855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se degli aspetti cognitivi (edonistici) e volontari della boc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 LINGUA è il manipolatore del cibo in bocca e quindi lo strumento “cognitivo” princip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797360" y="1954080"/>
            <a:ext cx="4097520" cy="2527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31640" y="2089080"/>
            <a:ext cx="1828800" cy="2381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50920" y="279360"/>
            <a:ext cx="69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FASI DELLA DEGLUTI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50920" y="113364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4. O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3654360"/>
            <a:ext cx="8686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deglutizione è un atto che inizia VOLONTARI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lingua entra in contatto anteriormente con le arcate dent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l contatto verticale della lingua con il palato prosegue spingendo il bolo verso l’orofari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537000" y="1224000"/>
            <a:ext cx="1660320" cy="2384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0920" y="279360"/>
            <a:ext cx="69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FASI DELLA DEGLUTI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118440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5. FARING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80920" y="1854360"/>
            <a:ext cx="738216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 deglutizione procede in mod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riflesso e automa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279360"/>
            <a:ext cx="69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FASI DELLA DEGLUTI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46280" y="4508640"/>
            <a:ext cx="7381800" cy="1845720"/>
            <a:chOff x="746280" y="4508640"/>
            <a:chExt cx="7381800" cy="1845720"/>
          </a:xfrm>
        </p:grpSpPr>
        <p:sp>
          <p:nvSpPr>
            <p:cNvPr id="321" name=""/>
            <p:cNvSpPr/>
            <p:nvPr/>
          </p:nvSpPr>
          <p:spPr>
            <a:xfrm>
              <a:off x="746280" y="4508640"/>
              <a:ext cx="598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SCOPO DELLA FASE FARINGE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6280" y="5185080"/>
              <a:ext cx="7381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trasportare il cibo all’esofa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roteggere le vie aeree dall’aspirazio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79280" y="189000"/>
            <a:ext cx="871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Fase faring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izia nel momento in cui il bolo oltrepassa lo sfintere palato-glosso e termina con il superamento dello sfintere crico-faring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4000" y="2133720"/>
            <a:ext cx="85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351480" y="1584360"/>
            <a:ext cx="2630520" cy="2879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15920" y="2243160"/>
            <a:ext cx="69771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’innesco del riflesso della deglutizione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Comic Sans MS"/>
              </a:rPr>
              <a:t>determina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pertura dello sfintere palatoglo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hiusura dello sfintere velo-faring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izio della peristalsi faring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levazione del complesso ioido-faringeo e chiusura dello spazio glottico con abbattimento dell’epiglot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ilasciamento dell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fintere crico-faring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185920" y="569880"/>
            <a:ext cx="47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tezione delle vie ae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15920" y="1719360"/>
            <a:ext cx="7426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 prevenire l’aspirazione si h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levazione e chiusura del lar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bbassamento dell’epiglot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vvicinamento delle pliche ari-epiglot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chiusura delle corde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dduzione delle corde vocali 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50920" y="0"/>
            <a:ext cx="85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Fase Faringo-Esofag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pertura della regione crico-faringea per permettere il passaggio del bolo verso l’esofag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12000" y="243828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06640" y="2214720"/>
            <a:ext cx="7696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-lo sfintere si rilassa per permettere l’ap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- i movimenti in alto e in fuori del laringe ne favoriscono l’ap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-la retrazione della base della lingua sul bolo e la contrazione faringea aiutano la propulsione del cibo attraverso il fari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5920" y="81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35200" y="49212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GLUTI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67360" y="1449360"/>
            <a:ext cx="718920" cy="1035000"/>
          </a:xfrm>
          <a:prstGeom prst="downArrow">
            <a:avLst>
              <a:gd name="adj1" fmla="val 50000"/>
              <a:gd name="adj2" fmla="val 35991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27000" y="2573280"/>
            <a:ext cx="7245360" cy="2043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to di convogliare il cibo verso la via digestiva: partendo dalla bocca, attraverso il faringe, lungo l’esofago, fino allo stoma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27720" y="5094360"/>
            <a:ext cx="3429000" cy="1495440"/>
            <a:chOff x="5427720" y="5094360"/>
            <a:chExt cx="3429000" cy="149544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5427720" y="5094360"/>
              <a:ext cx="3429000" cy="14954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255" name=""/>
            <p:cNvSpPr/>
            <p:nvPr/>
          </p:nvSpPr>
          <p:spPr>
            <a:xfrm>
              <a:off x="7316640" y="5904000"/>
              <a:ext cx="1441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16640" y="6083280"/>
              <a:ext cx="24764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1133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6. ESOFAG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124000"/>
            <a:ext cx="877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se sotto controllo nervoso involontario, con ripresa del ciclo respirat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142920"/>
            <a:ext cx="69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FASI DELLA DEGLUTI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787400" y="31590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V="1">
            <a:off x="2687760" y="6129360"/>
            <a:ext cx="1035000" cy="1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1640" y="5049720"/>
            <a:ext cx="328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a fase esofagea dura da 8 a 20 second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197160" y="50328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ISFA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76280" y="1224000"/>
            <a:ext cx="63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Dal greco dis-fagia= male-mangi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06280" y="2124000"/>
            <a:ext cx="1379520" cy="18446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916280" y="1719360"/>
            <a:ext cx="6667200" cy="2286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rot="5400000">
            <a:off x="3460320" y="3954240"/>
            <a:ext cx="1752480" cy="16002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5575320"/>
            <a:ext cx="77724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DIFFICOLTA’ O IMPOSSIBILITA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AD ATTUAR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ALIMENTAZIONE ORALE AUTONOMA E SIC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50920" y="1628640"/>
            <a:ext cx="490680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mplic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1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enetrazion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el bolo o di particelle di cibo/saliva nel vestibolo laringeo (il riflesso della tosse è presente ma ridot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2000" y="368280"/>
            <a:ext cx="88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ISTURBI DELLA DEGLUTIZIONE: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ISFA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2000" y="4373640"/>
            <a:ext cx="49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(2)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spirazione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del bolo nelle vie aeree superiori oltre il livello del piano glottico (il riflesso della tosse è asse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00400" y="4255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. . . COME SI MANIFEST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14796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capacità a preparare il bolo alimentare e/o a farlo procedere dal cavo orale all’esofago, fino allo stom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22720" y="4824360"/>
            <a:ext cx="56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fficoltà nella deglutizione di cibi solidi, liquidi, saliva o secre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624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51" name=""/>
          <p:cNvSpPr/>
          <p:nvPr/>
        </p:nvSpPr>
        <p:spPr>
          <a:xfrm>
            <a:off x="3176640" y="32925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mpromissione di una o più fasi della deglut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00200" y="5475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FATTORI DI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7000" y="1628640"/>
            <a:ext cx="8534160" cy="405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Assenza di deglutizione volontar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Diminuzione delle facoltà cogni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Intubazione per lunghi period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Età avanzat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Alterato livello di coscienz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Uso di farmaci particolari (neurolettici, sedativi.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Posture inadeguate del capo e del coll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Rounded MT Bold"/>
              </a:rPr>
              <a:t>Assetto posturale spontaneo inadegu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09480" y="533520"/>
            <a:ext cx="845820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Scialorre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TOSSE durante o dopo la deglutizione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Tosse poco effic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Eccessiva lentezza nell’assunzione dei cib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Inappetenz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Pocke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Rialzo della temperatu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Voce gorgogliante o umi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Schiarimenti di gola frequenti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Lingua protrus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Lentezza e/o ritardo nel degluti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Mancata coordinazione tra masticazione e deglutizi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Ripetute deglutizioni per un piccolo bocc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it-IT" sz="2300" spc="-1" strike="noStrike">
                <a:solidFill>
                  <a:srgbClr val="ffffff"/>
                </a:solidFill>
                <a:latin typeface="Arial Rounded MT Bold"/>
              </a:rPr>
              <a:t>Rigurgiti orali o nasal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76320"/>
            <a:ext cx="601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PRINCIPALI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SEGNI E SINTOMI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della disf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416640" y="1089000"/>
            <a:ext cx="2352600" cy="1628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836640" y="503280"/>
            <a:ext cx="3276720" cy="2025720"/>
          </a:xfrm>
          <a:prstGeom prst="downArrowCallout">
            <a:avLst>
              <a:gd name="adj1" fmla="val 40442"/>
              <a:gd name="adj2" fmla="val 40439"/>
              <a:gd name="adj3" fmla="val 16667"/>
              <a:gd name="adj4" fmla="val 66667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Rounded MT Bold"/>
              </a:rPr>
              <a:t>Proced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Rounded MT Bold"/>
              </a:rPr>
              <a:t>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Rounded MT Bold"/>
              </a:rPr>
              <a:t>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2141640" y="36543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127440"/>
            <a:ext cx="605808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PREREQUISITI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per eseguire lo scre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75920" y="1267920"/>
            <a:ext cx="57164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l livello di coscienza del paz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(capacità di collaborare minimam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l grado di controllo postur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(capacità di mantenere il tronco eret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uona igiene o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l controllo delle secrezioni o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7000" y="36990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 Rounded MT Bold"/>
              </a:rPr>
              <a:t>Se il paziente possiede questi pre-requisiti allora si può procedere al</a:t>
            </a:r>
            <a:r>
              <a:rPr b="0" lang="en-US" sz="1800" spc="-1" strike="noStrike">
                <a:solidFill>
                  <a:srgbClr val="6633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340160" y="-69840"/>
            <a:ext cx="457200" cy="8534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222480 h 8534520"/>
              <a:gd name="textAreaBottom" fmla="*/ 8312040 h 853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7000" y="5454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V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parte dello screening per il rischio di  aspirazione nei pazienti con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ok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SIGN 2.1.1) e in quelli che presentano numeros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adri patologic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Gruppo Studio FLI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67000" y="4508640"/>
            <a:ext cx="5759280" cy="86040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est del bolo d’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877000" y="279360"/>
            <a:ext cx="306072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Test di screening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più utilizz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1066680"/>
            <a:ext cx="853416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Tree-oz Water Swallow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Bedside Swallowing Assesment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Test di Bu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Water Swallow test sensibilizzato con pulsossi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Water Swallow test sensibilizzato con auscultazione cerv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Test di deglutizione a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Northwestern Dysphagia patient Check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Test di tosse rifl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 Rounded MT Bold"/>
              </a:rPr>
              <a:t>Procedura di screening della deglutizione        </a:t>
            </a:r>
            <a:r>
              <a:rPr b="0" lang="it-IT" sz="2000" spc="-1" strike="noStrike">
                <a:solidFill>
                  <a:srgbClr val="000000"/>
                </a:solidFill>
                <a:latin typeface="Arial Rounded MT Bold"/>
              </a:rPr>
              <a:t>(modificato da SIGN, 2004 – LGD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62920" y="3049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8580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92640" cy="670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5334120" y="22860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Arial Rounded MT Bold"/>
              </a:rPr>
              <a:t>Bedside Swallowing Assesment 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295280"/>
            <a:ext cx="3962520" cy="53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Controllo di capo e tro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Tipo di respi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Livello di coscie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Motilità della muscolatura oro-facc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Innalzamento laring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Riflesso della degluti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Riflesso della to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Si richiede di bere quantità crescenti di acqua valutando la comparsa dei segni clinici di disfa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6280" y="49212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 DEGLUTIZIONE è un a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360" y="1898640"/>
            <a:ext cx="8982360" cy="3542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e richiede minima partecipazione della volon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 rapida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n dolo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si inavvert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 cui si è solo in parte consapev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33520" y="304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 Rounded MT Bold"/>
              </a:rPr>
              <a:t>Risultato dello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1770120"/>
            <a:ext cx="396216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NEG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Rounded MT Bold"/>
              </a:rPr>
              <a:t>per inalazione/aspi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1752480"/>
            <a:ext cx="396216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Rounded MT Bold"/>
              </a:rPr>
              <a:t>per inalazione/aspi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3733920"/>
            <a:ext cx="38102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OSSERVARE</a:t>
            </a:r>
            <a:r>
              <a:rPr b="1" lang="en-US" sz="2400" spc="-1" strike="noStrike">
                <a:solidFill>
                  <a:srgbClr val="0099cc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l paziente durante il suo primo pasto presentando alimenti di facile assunzione di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evitando le doppie consist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52880" y="3841920"/>
            <a:ext cx="40388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vviare il paziente alla</a:t>
            </a:r>
            <a:r>
              <a:rPr b="1" lang="en-US" sz="2400" spc="-1" strike="noStrike">
                <a:solidFill>
                  <a:srgbClr val="cc33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VALUTAZIONE specifica FONIATRICO-LOGOPEDICA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514600" y="914400"/>
            <a:ext cx="2209680" cy="762120"/>
          </a:xfrm>
          <a:prstGeom prst="line">
            <a:avLst/>
          </a:prstGeom>
          <a:ln w="507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76920" y="914400"/>
            <a:ext cx="1981080" cy="7621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0800000">
            <a:off x="609480" y="1752120"/>
            <a:ext cx="3810240" cy="1828800"/>
          </a:xfrm>
          <a:prstGeom prst="upArrowCallout">
            <a:avLst>
              <a:gd name="adj1" fmla="val 52091"/>
              <a:gd name="adj2" fmla="val 52087"/>
              <a:gd name="adj3" fmla="val 16667"/>
              <a:gd name="adj4" fmla="val 6666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0800000">
            <a:off x="5028840" y="1752120"/>
            <a:ext cx="3809880" cy="1828800"/>
          </a:xfrm>
          <a:prstGeom prst="upArrowCallout">
            <a:avLst>
              <a:gd name="adj1" fmla="val 52086"/>
              <a:gd name="adj2" fmla="val 52082"/>
              <a:gd name="adj3" fmla="val 16667"/>
              <a:gd name="adj4" fmla="val 6666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06280" y="492120"/>
            <a:ext cx="80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 DEGLUTIZIONE non prev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360" y="1778040"/>
            <a:ext cx="3537000" cy="437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igurgito na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assaggio di cibo nelle vie ae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uccessivo reflusso esofageo o rigurgito orale (ruminazion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IncrocioADeng"/>
          <p:cNvPicPr/>
          <p:nvPr/>
        </p:nvPicPr>
        <p:blipFill>
          <a:blip r:embed="rId1"/>
          <a:stretch/>
        </p:blipFill>
        <p:spPr>
          <a:xfrm>
            <a:off x="6372360" y="1763640"/>
            <a:ext cx="2746080" cy="4095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28" descr="Reflusso"/>
          <p:cNvPicPr/>
          <p:nvPr/>
        </p:nvPicPr>
        <p:blipFill>
          <a:blip r:embed="rId2"/>
          <a:stretch/>
        </p:blipFill>
        <p:spPr>
          <a:xfrm>
            <a:off x="3672000" y="1763640"/>
            <a:ext cx="26398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5920" y="2214720"/>
            <a:ext cx="661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2520" y="2168640"/>
            <a:ext cx="832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ura circa 0.7 sec (liquidi), 3-4 sec (soli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involge 26 mus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è controllata da 5 nervi cra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6280" y="492120"/>
            <a:ext cx="48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 DEGLUTI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rut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ess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57360" y="1403280"/>
            <a:ext cx="7110360" cy="4996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292720" y="55897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CORDE VOC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976640" y="0"/>
            <a:ext cx="431172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148360" y="2133720"/>
            <a:ext cx="936360" cy="10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20000" y="1844640"/>
            <a:ext cx="936720" cy="10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2852640"/>
            <a:ext cx="93672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3573360"/>
            <a:ext cx="936360" cy="10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862360" y="684000"/>
            <a:ext cx="2233440" cy="139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222720" y="2124000"/>
            <a:ext cx="37972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67000" y="35640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276720" y="4508640"/>
            <a:ext cx="45352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18900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vole sfinteriche fisiolog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549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. Sfintere lab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177336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. Sfintere velo-farin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8000" y="3349800"/>
            <a:ext cx="34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3. Sfintere laringeo/glot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4365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4. Sfintere cricofaring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43480" y="26258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236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3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5672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41280" y="414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1. Controllo cort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000" y="1314360"/>
            <a:ext cx="8685000" cy="54529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centro corticale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della deglutizione è situato al piede de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Comic Sans MS"/>
              </a:rPr>
              <a:t>circonvoluzione frontale ascendente a livello dell’opercolo rolandico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La rappresentazione dei muscoli della deglutizione è bilaterale e asimmetrica con un lato dominante per la deglutizione che non è necessariamente quello responsabile della dominanza manu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Dalla corteccia anterolaterale le fibre raggiungono, attraverso la capsula interna, la substantia nigra e la formazione reticolare mesencefa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5920" y="2033640"/>
            <a:ext cx="8596440" cy="4155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l “centro della deglutizione” del tronco cerebrale è localizzato tra il polo posteriore del nucleo del facciale nel bulbo e il polo rostrale dell’oliva inferi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l cervelletto ha la funzione di assicurare la perfetta sincronizzazione delle sinergie complesse (ad esempio, buccinatore-massetere-lingua, durante la fase di preparazione del bolo alimenta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1280" y="414360"/>
            <a:ext cx="84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2. Controllo sottocorti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9:44:54Z</dcterms:created>
  <dc:creator>Michelini Paolo</dc:creator>
  <dc:description/>
  <dc:language>en-US</dc:language>
  <cp:lastModifiedBy>reparto</cp:lastModifiedBy>
  <dcterms:modified xsi:type="dcterms:W3CDTF">2012-10-26T17:23:03Z</dcterms:modified>
  <cp:revision>305</cp:revision>
  <dc:subject/>
  <dc:title>LA GESTIONE DEL PAZIENTE DISFAGICO ADULTO</dc:title>
</cp:coreProperties>
</file>